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6A5-8D0B-483E-959C-B866149D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DBC-F665-4033-AF36-2513436C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7C1-745F-45BB-A9E6-4012EDB2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4BA-8556-4725-812C-0DDE6E81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466A-7E31-4FE4-8632-06ADE07A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701D-7061-4A14-8E5F-0567A1E2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770B-A8FE-4A6B-A9B0-9B9EE32B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232E-B607-4622-B45F-C62D2016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80EE-19B5-4DAF-9B9B-30E0C021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EC87-3E14-4CA0-8C22-A5491F03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7B7C-CC42-4118-AA2A-05514ADF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540-AB71-4BBF-9A15-F7609450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662F-2502-4229-BEE2-32C2142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5B7-F68F-4AC9-BB41-D65F16DD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4A9E-37F4-465E-B3B2-CA09E001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AA7B-418C-4BF7-A402-E7EB7937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CE87-5888-4DDB-837B-D4E96C63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BB7-7812-4CE0-8EFD-27A323C4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BE7-21BC-4409-9A44-573C9D6F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CA2-AE8A-40AF-B7A4-69A82D30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3BB-E6DF-4A3F-B4ED-CBE5AB6D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064-548F-4217-9F58-47826DCD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633-0394-455C-9E0A-1DEC746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46F-1108-4257-9DAB-EBAE8B1D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447920"/>
            <a:ext cx="472464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609480"/>
            <a:ext cx="838044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Simple Genetic Algorithms</a:t>
            </a:r>
            <a:br>
              <a:rPr sz="4000"/>
            </a:b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Primjer sa realnim vrijednostima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0. 9. 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, Dong-Ye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selek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šemo slučaj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 opseg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0,1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ta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j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prv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romo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nač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el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j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sr-Latn-ME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romo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2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p_s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takav da 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14400" y="1523880"/>
          <a:ext cx="3429000" cy="5029200"/>
        </p:xfrm>
        <a:graphic>
          <a:graphicData uri="http://schemas.openxmlformats.org/drawingml/2006/table">
            <a:tbl>
              <a:tblPr/>
              <a:tblGrid>
                <a:gridCol w="533520"/>
                <a:gridCol w="1447560"/>
                <a:gridCol w="14479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11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11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975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086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538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625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650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276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880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156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668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824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008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832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109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942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482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424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575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Object 84"/>
              <p:cNvSpPr txBox="1"/>
              <p:nvPr/>
            </p:nvSpPr>
            <p:spPr>
              <a:xfrm>
                <a:off x="1073160" y="533520"/>
                <a:ext cx="31561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537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4" name="Picture 85" descr="C:\temp\Image2.bmp"/>
          <p:cNvPicPr/>
          <p:nvPr/>
        </p:nvPicPr>
        <p:blipFill>
          <a:blip r:embed="rId1"/>
          <a:stretch/>
        </p:blipFill>
        <p:spPr>
          <a:xfrm>
            <a:off x="5562720" y="1752480"/>
            <a:ext cx="136656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Gene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ski o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pera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or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ssove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 (ukrštan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point cross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ossover r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rossov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j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d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roditel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še se slučajan 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 interv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0,1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da izvršava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rosso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a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cija (mut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cija mijenja jedan ili više gena sa vjerovatnoćom jednak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stepenu mutaci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5"/>
          <p:cNvGrpSpPr/>
          <p:nvPr/>
        </p:nvGrpSpPr>
        <p:grpSpPr>
          <a:xfrm>
            <a:off x="1600200" y="1676520"/>
            <a:ext cx="5153040" cy="1222200"/>
            <a:chOff x="1600200" y="1676520"/>
            <a:chExt cx="5153040" cy="1222200"/>
          </a:xfrm>
        </p:grpSpPr>
        <mc:AlternateContent>
          <mc:Choice xmlns:a14="http://schemas.microsoft.com/office/drawing/2010/main" Requires="a14">
            <p:sp>
              <p:nvSpPr>
                <p:cNvPr id="148" name="Object 2"/>
                <p:cNvSpPr txBox="1"/>
                <p:nvPr/>
              </p:nvSpPr>
              <p:spPr>
                <a:xfrm>
                  <a:off x="1600200" y="1676520"/>
                  <a:ext cx="515304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110110100101101000000010111001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011010100001100010110011001100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Line 3"/>
            <p:cNvSpPr/>
            <p:nvPr/>
          </p:nvSpPr>
          <p:spPr>
            <a:xfrm>
              <a:off x="4419720" y="1752480"/>
              <a:ext cx="1440" cy="22860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2209680" y="2057400"/>
              <a:ext cx="4343400" cy="380880"/>
            </a:xfrm>
            <a:prstGeom prst="rect">
              <a:avLst/>
            </a:prstGeom>
            <a:noFill/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2209680" y="2514600"/>
              <a:ext cx="4419720" cy="304920"/>
            </a:xfrm>
            <a:prstGeom prst="rect">
              <a:avLst/>
            </a:prstGeom>
            <a:noFill/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Group 13"/>
          <p:cNvGrpSpPr/>
          <p:nvPr/>
        </p:nvGrpSpPr>
        <p:grpSpPr>
          <a:xfrm>
            <a:off x="1600200" y="3124080"/>
            <a:ext cx="5130720" cy="800280"/>
            <a:chOff x="1600200" y="3124080"/>
            <a:chExt cx="5130720" cy="800280"/>
          </a:xfrm>
        </p:grpSpPr>
        <mc:AlternateContent>
          <mc:Choice xmlns:a14="http://schemas.microsoft.com/office/drawing/2010/main" Requires="a14">
            <p:sp>
              <p:nvSpPr>
                <p:cNvPr id="153" name="Object 6"/>
                <p:cNvSpPr txBox="1"/>
                <p:nvPr/>
              </p:nvSpPr>
              <p:spPr>
                <a:xfrm>
                  <a:off x="1600200" y="3124080"/>
                  <a:ext cx="513072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110110100101100010110011001100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011010100001101000000010111001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Rectangle 8"/>
            <p:cNvSpPr/>
            <p:nvPr/>
          </p:nvSpPr>
          <p:spPr>
            <a:xfrm>
              <a:off x="2209680" y="3144960"/>
              <a:ext cx="2286000" cy="304560"/>
            </a:xfrm>
            <a:prstGeom prst="rect">
              <a:avLst/>
            </a:prstGeom>
            <a:noFill/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495680" y="3525840"/>
              <a:ext cx="2133720" cy="304920"/>
            </a:xfrm>
            <a:prstGeom prst="rect">
              <a:avLst/>
            </a:prstGeom>
            <a:noFill/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4495680" y="3144960"/>
              <a:ext cx="2133720" cy="304560"/>
            </a:xfrm>
            <a:prstGeom prst="rect">
              <a:avLst/>
            </a:prstGeom>
            <a:noFill/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209680" y="3525840"/>
              <a:ext cx="2286000" cy="304920"/>
            </a:xfrm>
            <a:prstGeom prst="rect">
              <a:avLst/>
            </a:prstGeom>
            <a:noFill/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Object 45"/>
              <p:cNvSpPr txBox="1"/>
              <p:nvPr/>
            </p:nvSpPr>
            <p:spPr>
              <a:xfrm>
                <a:off x="1600200" y="4876920"/>
                <a:ext cx="51084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110110100101100010110011001100</m:t>
                        </m:r>
                        <m:r>
                          <m:t xml:space="preserve">]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110110100101100010010011001100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0"/>
          <p:cNvSpPr/>
          <p:nvPr/>
        </p:nvSpPr>
        <p:spPr>
          <a:xfrm>
            <a:off x="5073480" y="5272200"/>
            <a:ext cx="0" cy="380880"/>
          </a:xfrm>
          <a:prstGeom prst="line">
            <a:avLst/>
          </a:prstGeom>
          <a:ln cap="sq" w="1260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E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ks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perimen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odešavanj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arametr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m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ion condition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ximum_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pop_size (large, small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 parameter setting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 r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meter setting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ti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Najbolj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romo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omi iz prethodne populacije  se samo kopiraj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Funkcije za eksperi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Funkcija sa slaj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*) - max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strigi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in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kley – min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hwefel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min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Test 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f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un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kcije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strigin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447920" y="2057400"/>
                <a:ext cx="5734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5" name="Picture 5" descr="C:\temp\Image3.bmp"/>
          <p:cNvPicPr/>
          <p:nvPr/>
        </p:nvPicPr>
        <p:blipFill>
          <a:blip r:embed="rId1"/>
          <a:stretch/>
        </p:blipFill>
        <p:spPr>
          <a:xfrm>
            <a:off x="1752480" y="3343320"/>
            <a:ext cx="51357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kley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-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wefel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990720" y="2133720"/>
                <a:ext cx="79563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y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2176560" y="4800600"/>
                <a:ext cx="55116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29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Re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z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ul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at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Za izabranu funk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Tabela 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a funkciju i vaš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al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hromo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 svim eksperiment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Grafik 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ness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 funkcije kada je nađeno najbolje rješen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19320" y="2624040"/>
          <a:ext cx="7696080" cy="2865600"/>
        </p:xfrm>
        <a:graphic>
          <a:graphicData uri="http://schemas.openxmlformats.org/drawingml/2006/table">
            <a:tbl>
              <a:tblPr/>
              <a:tblGrid>
                <a:gridCol w="1218960"/>
                <a:gridCol w="1676520"/>
                <a:gridCol w="762120"/>
                <a:gridCol w="838080"/>
                <a:gridCol w="1676520"/>
                <a:gridCol w="685800"/>
                <a:gridCol w="838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rge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_siz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mall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_siz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erag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erag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C:\temp\dycho.bmp"/>
          <p:cNvPicPr/>
          <p:nvPr/>
        </p:nvPicPr>
        <p:blipFill>
          <a:blip r:embed="rId1"/>
          <a:stretch/>
        </p:blipFill>
        <p:spPr>
          <a:xfrm>
            <a:off x="1752480" y="1828800"/>
            <a:ext cx="6309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Reference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C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 GA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 libr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enetic Algorithms and Engineering De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Mitsuo Gen and Runwei Cheng, pp. 1-15, John Wiley &amp; Sons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Optimizalna vrijednost funkcije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j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1752480" y="2057400"/>
                <a:ext cx="48006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π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4" name="Picture 5" descr="C:\temp\Image1.bmp"/>
          <p:cNvPicPr/>
          <p:nvPr/>
        </p:nvPicPr>
        <p:blipFill>
          <a:blip r:embed="rId1"/>
          <a:stretch/>
        </p:blipFill>
        <p:spPr>
          <a:xfrm>
            <a:off x="1752480" y="3295800"/>
            <a:ext cx="5896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Reprezentacija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 Binarni stringov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 ko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523880" y="2286000"/>
                <a:ext cx="5118120" cy="22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100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51000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00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7000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8" name="Group 12"/>
          <p:cNvGrpSpPr/>
          <p:nvPr/>
        </p:nvGrpSpPr>
        <p:grpSpPr>
          <a:xfrm>
            <a:off x="1828800" y="4952880"/>
            <a:ext cx="4491000" cy="1155600"/>
            <a:chOff x="1828800" y="4952880"/>
            <a:chExt cx="4491000" cy="1155600"/>
          </a:xfrm>
        </p:grpSpPr>
        <mc:AlternateContent>
          <mc:Choice xmlns:a14="http://schemas.microsoft.com/office/drawing/2010/main" Requires="a14">
            <p:sp>
              <p:nvSpPr>
                <p:cNvPr id="99" name="Object 5"/>
                <p:cNvSpPr txBox="1"/>
                <p:nvPr/>
              </p:nvSpPr>
              <p:spPr>
                <a:xfrm>
                  <a:off x="1828800" y="4952880"/>
                  <a:ext cx="449100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                33bit                           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000001010100101001101111011111110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18bit             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15bit          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Line 6"/>
            <p:cNvSpPr/>
            <p:nvPr/>
          </p:nvSpPr>
          <p:spPr>
            <a:xfrm flipH="1">
              <a:off x="1905120" y="5105160"/>
              <a:ext cx="190512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4419720" y="5105160"/>
              <a:ext cx="17524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 flipH="1">
              <a:off x="1905120" y="5943600"/>
              <a:ext cx="8380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3353040" y="5943600"/>
              <a:ext cx="8380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 flipH="1">
              <a:off x="4267080" y="5943600"/>
              <a:ext cx="68580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5562720" y="5943600"/>
              <a:ext cx="6094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reslikavanj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a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nog stringa 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br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828800" y="2438280"/>
                <a:ext cx="46530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cimal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ubstrin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8" name="Object 56"/>
          <p:cNvGraphicFramePr/>
          <p:nvPr/>
        </p:nvGraphicFramePr>
        <p:xfrm>
          <a:off x="1828800" y="3352680"/>
          <a:ext cx="472428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52680"/>
                    <a:ext cx="47242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1828800" y="4648320"/>
                <a:ext cx="471816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17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96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318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65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Opšti oblik 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Simple G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752480" y="1828800"/>
            <a:ext cx="2971800" cy="457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Initial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52480" y="2895480"/>
            <a:ext cx="2971800" cy="38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Fit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752480" y="4952880"/>
            <a:ext cx="2971800" cy="38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Par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752480" y="5867280"/>
            <a:ext cx="2971800" cy="38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New Offsp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752480" y="3733920"/>
            <a:ext cx="2971800" cy="685800"/>
          </a:xfrm>
          <a:prstGeom prst="flowChartDecision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ion Condition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7" name="AutoShape 8"/>
          <p:cNvCxnSpPr>
            <a:stCxn id="112" idx="2"/>
            <a:endCxn id="113" idx="0"/>
          </p:cNvCxnSpPr>
          <p:nvPr/>
        </p:nvCxnSpPr>
        <p:spPr>
          <a:xfrm>
            <a:off x="3238200" y="22856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" name="AutoShape 9"/>
          <p:cNvCxnSpPr>
            <a:stCxn id="113" idx="2"/>
            <a:endCxn id="116" idx="0"/>
          </p:cNvCxnSpPr>
          <p:nvPr/>
        </p:nvCxnSpPr>
        <p:spPr>
          <a:xfrm>
            <a:off x="3238200" y="327672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AutoShape 10"/>
          <p:cNvCxnSpPr>
            <a:stCxn id="116" idx="2"/>
            <a:endCxn id="114" idx="0"/>
          </p:cNvCxnSpPr>
          <p:nvPr/>
        </p:nvCxnSpPr>
        <p:spPr>
          <a:xfrm>
            <a:off x="3238200" y="4419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AutoShape 11"/>
          <p:cNvCxnSpPr>
            <a:stCxn id="114" idx="2"/>
            <a:endCxn id="115" idx="0"/>
          </p:cNvCxnSpPr>
          <p:nvPr/>
        </p:nvCxnSpPr>
        <p:spPr>
          <a:xfrm>
            <a:off x="3238200" y="53337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Text Box 12"/>
          <p:cNvSpPr/>
          <p:nvPr/>
        </p:nvSpPr>
        <p:spPr>
          <a:xfrm>
            <a:off x="4878720" y="37339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277800" y="4572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AutoShape 14"/>
          <p:cNvCxnSpPr>
            <a:stCxn id="115" idx="2"/>
            <a:endCxn id="113" idx="1"/>
          </p:cNvCxnSpPr>
          <p:nvPr/>
        </p:nvCxnSpPr>
        <p:spPr>
          <a:xfrm flipV="1" rot="16200000">
            <a:off x="914040" y="3923640"/>
            <a:ext cx="3162960" cy="1486800"/>
          </a:xfrm>
          <a:prstGeom prst="bentConnector4">
            <a:avLst>
              <a:gd name="adj1" fmla="val -7216"/>
              <a:gd name="adj2" fmla="val 115379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24" name="Oval 15"/>
          <p:cNvSpPr/>
          <p:nvPr/>
        </p:nvSpPr>
        <p:spPr>
          <a:xfrm>
            <a:off x="5486400" y="2362320"/>
            <a:ext cx="2514600" cy="53316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tness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 flipH="1">
            <a:off x="3276720" y="2590920"/>
            <a:ext cx="2209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5486400" y="5257800"/>
            <a:ext cx="2514600" cy="5335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over, M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3276720" y="5562720"/>
            <a:ext cx="2209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5486400" y="3809880"/>
            <a:ext cx="2514600" cy="5335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st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9" name="AutoShape 20"/>
          <p:cNvCxnSpPr>
            <a:stCxn id="116" idx="3"/>
            <a:endCxn id="128" idx="2"/>
          </p:cNvCxnSpPr>
          <p:nvPr/>
        </p:nvCxnSpPr>
        <p:spPr>
          <a:xfrm>
            <a:off x="4723920" y="4076280"/>
            <a:ext cx="76284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Početna p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opula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cija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očet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pula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cija je slučajno generisa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1828800" y="2355840"/>
                <a:ext cx="5178600" cy="40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000101010010100110111101111111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111010111001100000001010100100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00011100000100001010100100011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1101101001011010000000101110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001011110110001000111000110100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1101010110110000000101100110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01000100111110001001100111011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101101010000110001011001100110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1100010111011000111010001111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101001110101010000010101101010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Izračunavanje f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itness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-a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izračuna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ver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ovanj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pa hromozoma u 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o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Ovo znači 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vert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ovanj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nar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nog stringa u realne vrijednost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računavanje ciljne funkcije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 function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ver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ovan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vrijednosti cilj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cije u fit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maksim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fitness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 jednak vrijednosti ciljn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minim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ness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 recipročan vrijednosti ciljn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 (ili se promijeni znak ciljne funkcij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1905120" y="1905120"/>
                <a:ext cx="5045040" cy="40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969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6165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5119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410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014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089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9457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46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054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995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59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122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1286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728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609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8084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434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54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2067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170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8717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256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49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319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1267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35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1669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627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190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2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Sele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k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ci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ja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Selekcija proporcionalna fitnesu (npr. rul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Rul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se može 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stru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sati na sljedeći nač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Računamo ukupa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tness popula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cij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Računamo vjerovatnoće selekcij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svaki hromoz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Računamo 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mulativ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n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vjerovatoć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svak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romo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3581280" y="3048120"/>
                <a:ext cx="1644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2362320" y="4191120"/>
                <a:ext cx="4022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2362320" y="5289480"/>
                <a:ext cx="3911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09:20:43Z</dcterms:created>
  <dc:creator>Cho, Dong-Yeon</dc:creator>
  <dc:description/>
  <dc:language>en-US</dc:language>
  <cp:lastModifiedBy>Goran Sukovic</cp:lastModifiedBy>
  <dcterms:modified xsi:type="dcterms:W3CDTF">2017-10-31T12:12:10Z</dcterms:modified>
  <cp:revision>36</cp:revision>
  <dc:subject/>
  <dc:title>Optimization Problem with Simple Genetic Algorithms</dc:title>
</cp:coreProperties>
</file>